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EC423-F904-44CB-BA99-653218CFB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DD9C6-ECAA-4BBB-8AC4-5D145B495FC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568080" y="4560480"/>
            <a:ext cx="536580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G Times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BF39-A1B5-4A22-884B-1827EAFB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85EA-78FA-40C4-9C60-F65613E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7D4E-AAF4-4A3F-B932-B1C07C32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719-8347-4B15-968E-84B4C639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AFF5-268E-47E0-A216-76712A7F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135D-D2D3-4939-8EE8-2D62F992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D745-2E40-42B3-AB0C-30EDCC19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7B82-0767-4E34-B980-827F301B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F7B2-4A35-4F12-A094-DE6F369D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92D2-265A-419D-9019-44BBF421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72AF-C667-4E3D-8E88-A95E1DD6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2C1-9CF3-4A91-99E6-750E424A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B994-1B36-4582-890B-1B2C712B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A63B-34EB-4F1D-9648-C82D3D1D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B49E-77E9-463F-A090-CCB1704F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0595A-3865-48B8-9B55-1BBD8A5F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324-FFC8-4D12-BA7D-1D999A21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DA9-5AC7-427F-8086-9B7474A8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F80-53E6-4C10-9F6B-6EF49B2C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B314-9A24-4CA4-ACFB-D0E6BDD1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-90360"/>
            <a:ext cx="7772400" cy="77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E2BC-DC2E-4FC1-8874-94DE5CB1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16A-8901-49D0-BF69-D36F0A15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A38-4AB2-4415-A92A-267A860F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C246-81F4-4239-A3C5-D3F76832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48FD-52DF-47FB-96BD-73D8E2AE2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94E8-60D5-4979-BDF6-A929F092E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ffective Writing Basic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ps that can improve your writing in any mediu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While the new ST7000 provides extensive memory and is extremely user compatible, it lacks the requisite capacity for calculating at a high rate of speed.  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Times New Roman"/>
              </a:rPr>
              <a:t>Our computer system is easy to use and has enough memory, but it is too slow.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Demand-side capacity combined with transmission wheeling contracts and local generation resources will be able to meet local demand and spinning reserve requirement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SMUD will be able to save and produce enough power to meet local needs for the next five year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4: Write with verbs and nou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the act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en it is okay to use passive voi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6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mpany (S) sells (V)  insurance (O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Insurance is sold by the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he construction crew repaired the road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:  The road was repaired by the construction company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Univer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Tests showed the new material did not wear wel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Univers"/>
                <a:ea typeface="Courier New"/>
              </a:rPr>
              <a:t>Not:</a:t>
            </a: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  When tests were run, it was discovered that good wear is not exhibited by the new material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7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Univers"/>
                <a:ea typeface="Courier New"/>
              </a:rPr>
              <a:t>Choose the right verb and the right nou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ran quickly across the four-lane street, almost falling down when he stepped in a large hole in the concrete. (22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Univer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"/>
                <a:ea typeface="Courier New"/>
              </a:rPr>
              <a:t>Mr. Johnson sprinted across the boulevard, stumbling when he stepped in a pothole. (13 words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5:  Format document to improve readabi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lists, bullets, charts, tables, indents, italics, bolds, headings and subhead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100-word ru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efore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o is the audience (“My audience is _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rpose of the message (“My purpose is________.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ow will the reader use the information (“So that the reader will________.”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s you begi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emble all useful inform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termine what’s importa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hoose what to leave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ou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roup information logicall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 ways to organiz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vis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pare/contra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ause/eff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blem-analysis solu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vision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rt with main idea, then discuss the par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CME Corporation faces four problems that threaten its competitiveness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Outdated marketing pla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service recor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High pric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ow Moral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-90360"/>
            <a:ext cx="7772400" cy="16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reader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simple words and short senten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jargon only when necessar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with verbs and nou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ormat to improve readability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ompare/Contras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familiar to explain unfamilia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ut the conclusion up fro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If we expand in the West we will face the same challenges as we did in expanding to the South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Lack of ident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or distribu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hort p-term cash flow probl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Untrained labor forc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roblem-Analysis-Solution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nd a straightforward way to offer recommendat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shipping dock’s inability to ship product fast enough results from a inefficient tracking system.  The solution is to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vest in a new computer system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train staff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form customers of realistic shipping tim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udget for overtime to meet peak demand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ause/Effec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esents a clear-way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-B; A-B-C-D; ABCD-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Reorganizing the marketing department will cause two benefits and one problem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mproved accountability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etter communic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oblem – poorer service to industrial custome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velop an out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ri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he easiest part firs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velop major sections one at a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troduction for main idea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in point in first paragraph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urn off your internal edito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Plan, organize, writ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0% of writing is re-writing and edit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et the document coo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un a Fog te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im to cut first draft by at least 10%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1:  Put the reader firs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mmunication = understanding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rite to EXpress not Imp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e words readers can pict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ie in to the reader’s experienc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IIFM – What’s in it for 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2: Use simple words and short sentenc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Per our conversation, I am enclosing herewith a remittance of $25 for the balance due on my account. (1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we discussed, here is the $25 remaining on my account. (11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Here is the $25 remaining on my account. (8 word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As pertaining to the question of whether or not to construct a new storage facility, corporate management will ascertain the appropriateness of such an issue in the near futur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Management will decide next week whether to build a new storage fac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ip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Courier New"/>
              </a:rPr>
              <a:t>Avoid wordy prepositional phras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amount of (for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order to (to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e to the fact that (becaus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In the event that (if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During the time that (when, while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Five keys to effective writing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#3:  Use jargon only when necessar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is jargo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xample 3</a:t>
            </a: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The new FMIS system from Global provides VOR/DME nav redundancy, as well as enhanced GPS capability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Univer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"/>
                <a:ea typeface="Courier New"/>
              </a:rPr>
              <a:t>Global's new flight management system provides several ways to navigate your airplane, including the latest in satellite navigation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20:53:53Z</dcterms:created>
  <dc:creator>Scott Mackey</dc:creator>
  <dc:description/>
  <dc:language>en-US</dc:language>
  <cp:lastModifiedBy>win-7</cp:lastModifiedBy>
  <cp:lastPrinted>2009-04-22T19:24:48Z</cp:lastPrinted>
  <dcterms:modified xsi:type="dcterms:W3CDTF">2014-09-02T19:17:33Z</dcterms:modified>
  <cp:revision>16</cp:revision>
  <dc:subject/>
  <dc:title>Six keys to effective writing</dc:title>
</cp:coreProperties>
</file>